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24637-AFCF-4BBD-B814-591062CDC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ation par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ui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ur l’energ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coupe a 5% de l’énergie mo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01DE4-A3FC-4E91-92CB-A680D0061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king sur les segments et sur une bande de fréquence 0-1000Hz (matérialisée en ve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king = Suivi des maximas du spectre avec notion de peu de variance de la frequence et de l’amplitude entre 2 trames consecutives (ici le resultat en no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2579D-A6AB-4167-9D74-CE03D8728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chaque point du tracking (chaque maxima appartenant a une suite) on cherche a savoir si il est lié (l’un est multiple de l’autre) ou non a F0 (ici calculé grace qu YIN, en bleu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 points rouges sont liés, les verts non. On cherche des instants ou cohexistent au moins 2 maxima liés et 2 non-liés. Les instants consecutifs marquent un segment de parole superposée. Ici encadré en n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95038-915B-4D52-B47B-1C2398AE6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76C-719C-4D41-9E94-5AB2431D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5B4-24B7-4B96-AB1A-2532134C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7A7-726A-47AF-8860-74414E98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446-7B05-4295-AB6E-F59A922C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4F2-2BF2-4772-90DC-9B282F2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806-A405-434B-8C13-9595336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20-16F2-452F-A126-3F118DA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0B5-5321-4AAE-BAF3-6DEA591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EFA-4095-4865-A40A-A52233E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6E8-220E-4B94-8D39-C4EC3547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D0A-86DB-45B4-90AF-DAAF307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714-9603-4799-921F-B61316D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F4BB9-8676-4A7D-8F9F-46AAECAF3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DD03F-E5C7-4C26-B301-297B36467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6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– S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ole Superposé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Système IRIT-SAMo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Maxime Le Coz et Julien Pinqu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898989"/>
                </a:solidFill>
                <a:latin typeface="Calibri"/>
              </a:rPr>
              <a:t>By Isabelle Ferra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Atelier ETAPE 18-19 ju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360" y="5899320"/>
            <a:ext cx="2454480" cy="76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929280" y="6107040"/>
            <a:ext cx="168624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F30-A2A6-4819-97EC-4B66442CC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ystème SES-IR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a 3"/>
          <p:cNvSpPr/>
          <p:nvPr/>
        </p:nvSpPr>
        <p:spPr>
          <a:xfrm>
            <a:off x="539640" y="1282680"/>
            <a:ext cx="1425600" cy="866880"/>
          </a:xfrm>
          <a:prstGeom prst="flowChartInputOutpu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2" descr="Capture d’écran 2012-06-13 à 15.21.05.png"/>
          <p:cNvPicPr/>
          <p:nvPr/>
        </p:nvPicPr>
        <p:blipFill>
          <a:blip r:embed="rId1"/>
          <a:stretch/>
        </p:blipFill>
        <p:spPr>
          <a:xfrm>
            <a:off x="457200" y="2895480"/>
            <a:ext cx="7053120" cy="362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Capture d’écran 2012-06-13 à 15.21.31.png"/>
          <p:cNvPicPr/>
          <p:nvPr/>
        </p:nvPicPr>
        <p:blipFill>
          <a:blip r:embed="rId2"/>
          <a:stretch/>
        </p:blipFill>
        <p:spPr>
          <a:xfrm>
            <a:off x="457200" y="2895480"/>
            <a:ext cx="7053120" cy="361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821960" y="1282680"/>
            <a:ext cx="7261560" cy="5423760"/>
            <a:chOff x="1821960" y="1282680"/>
            <a:chExt cx="7261560" cy="5423760"/>
          </a:xfrm>
        </p:grpSpPr>
        <p:sp>
          <p:nvSpPr>
            <p:cNvPr id="57" name="Process 4"/>
            <p:cNvSpPr/>
            <p:nvPr/>
          </p:nvSpPr>
          <p:spPr>
            <a:xfrm>
              <a:off x="2498760" y="1282680"/>
              <a:ext cx="1538280" cy="866880"/>
            </a:xfrm>
            <a:prstGeom prst="flowChartProcess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egmen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8" name="Straight Arrow Connector 8"/>
            <p:cNvCxnSpPr>
              <a:stCxn id="53" idx="5"/>
              <a:endCxn id="57" idx="1"/>
            </p:cNvCxnSpPr>
            <p:nvPr/>
          </p:nvCxnSpPr>
          <p:spPr>
            <a:xfrm>
              <a:off x="1821960" y="1716120"/>
              <a:ext cx="677160" cy="216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59" name="TextBox 7"/>
            <p:cNvSpPr/>
            <p:nvPr/>
          </p:nvSpPr>
          <p:spPr>
            <a:xfrm>
              <a:off x="4297320" y="1282680"/>
              <a:ext cx="4786200" cy="54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rétraitement : Localisation des zones d’intérêt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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egmentation en 2 passes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) Energie moyenne – seuil &gt; </a:t>
              </a:r>
              <a:r>
                <a:rPr b="1" lang="en-US" sz="2000" spc="-1" strike="noStrike">
                  <a:solidFill>
                    <a:srgbClr val="4f81bd"/>
                  </a:solidFill>
                  <a:latin typeface="Arial Black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4f81bd"/>
                  </a:solidFill>
                  <a:latin typeface="Arial Black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) PMB  </a:t>
              </a: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[Pinquier03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- Segmentation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de “Régine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[Obrecht88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buClr>
                  <a:srgbClr val="c0504d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NB et durée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des segment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- Modulation de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l’Energie à 4hz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buClr>
                  <a:srgbClr val="c0504d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Modul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c0504d"/>
                  </a:solidFill>
                  <a:latin typeface="Arial"/>
                </a:rPr>
                <a:t>de l’entropi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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Segments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de Paro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890-8158-4D97-BABF-FE40723C2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ystème SES-IR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spectre2.gif"/>
          <p:cNvPicPr/>
          <p:nvPr/>
        </p:nvPicPr>
        <p:blipFill>
          <a:blip r:embed="rId1"/>
          <a:stretch/>
        </p:blipFill>
        <p:spPr>
          <a:xfrm>
            <a:off x="3205080" y="2255760"/>
            <a:ext cx="2551320" cy="309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pectre1.gif"/>
          <p:cNvPicPr/>
          <p:nvPr/>
        </p:nvPicPr>
        <p:blipFill>
          <a:blip r:embed="rId2"/>
          <a:stretch/>
        </p:blipFill>
        <p:spPr>
          <a:xfrm>
            <a:off x="3205080" y="2428920"/>
            <a:ext cx="2551320" cy="28224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4353840" y="3001680"/>
            <a:ext cx="127440" cy="127080"/>
            <a:chOff x="4353840" y="3001680"/>
            <a:chExt cx="127440" cy="127080"/>
          </a:xfrm>
        </p:grpSpPr>
        <p:sp>
          <p:nvSpPr>
            <p:cNvPr id="64" name="Straight Connector 6"/>
            <p:cNvSpPr/>
            <p:nvPr/>
          </p:nvSpPr>
          <p:spPr>
            <a:xfrm flipV="1">
              <a:off x="4353840" y="300168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7"/>
            <p:cNvSpPr/>
            <p:nvPr/>
          </p:nvSpPr>
          <p:spPr>
            <a:xfrm flipH="1" flipV="1">
              <a:off x="4354200" y="300168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4971240" y="3941280"/>
            <a:ext cx="127440" cy="127080"/>
            <a:chOff x="4971240" y="3941280"/>
            <a:chExt cx="127440" cy="127080"/>
          </a:xfrm>
        </p:grpSpPr>
        <p:sp>
          <p:nvSpPr>
            <p:cNvPr id="67" name="Straight Connector 9"/>
            <p:cNvSpPr/>
            <p:nvPr/>
          </p:nvSpPr>
          <p:spPr>
            <a:xfrm flipV="1">
              <a:off x="4971240" y="394128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10"/>
            <p:cNvSpPr/>
            <p:nvPr/>
          </p:nvSpPr>
          <p:spPr>
            <a:xfrm flipH="1" flipV="1">
              <a:off x="4971600" y="394128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3631320" y="3642840"/>
            <a:ext cx="127440" cy="127080"/>
            <a:chOff x="3631320" y="3642840"/>
            <a:chExt cx="127440" cy="127080"/>
          </a:xfrm>
        </p:grpSpPr>
        <p:sp>
          <p:nvSpPr>
            <p:cNvPr id="70" name="Straight Connector 12"/>
            <p:cNvSpPr/>
            <p:nvPr/>
          </p:nvSpPr>
          <p:spPr>
            <a:xfrm flipV="1">
              <a:off x="3631320" y="364284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13"/>
            <p:cNvSpPr/>
            <p:nvPr/>
          </p:nvSpPr>
          <p:spPr>
            <a:xfrm flipH="1" flipV="1">
              <a:off x="3631680" y="3642840"/>
              <a:ext cx="127080" cy="127080"/>
            </a:xfrm>
            <a:prstGeom prst="line">
              <a:avLst/>
            </a:prstGeom>
            <a:ln w="3168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14"/>
          <p:cNvGrpSpPr/>
          <p:nvPr/>
        </p:nvGrpSpPr>
        <p:grpSpPr>
          <a:xfrm>
            <a:off x="4379040" y="2709360"/>
            <a:ext cx="127440" cy="127080"/>
            <a:chOff x="4379040" y="2709360"/>
            <a:chExt cx="127440" cy="127080"/>
          </a:xfrm>
        </p:grpSpPr>
        <p:sp>
          <p:nvSpPr>
            <p:cNvPr id="73" name="Straight Connector 15"/>
            <p:cNvSpPr/>
            <p:nvPr/>
          </p:nvSpPr>
          <p:spPr>
            <a:xfrm flipV="1">
              <a:off x="4379040" y="270936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16"/>
            <p:cNvSpPr/>
            <p:nvPr/>
          </p:nvSpPr>
          <p:spPr>
            <a:xfrm flipH="1" flipV="1">
              <a:off x="4379400" y="270936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7"/>
          <p:cNvGrpSpPr/>
          <p:nvPr/>
        </p:nvGrpSpPr>
        <p:grpSpPr>
          <a:xfrm>
            <a:off x="4939560" y="4100040"/>
            <a:ext cx="127440" cy="127080"/>
            <a:chOff x="4939560" y="4100040"/>
            <a:chExt cx="127440" cy="127080"/>
          </a:xfrm>
        </p:grpSpPr>
        <p:sp>
          <p:nvSpPr>
            <p:cNvPr id="76" name="Straight Connector 18"/>
            <p:cNvSpPr/>
            <p:nvPr/>
          </p:nvSpPr>
          <p:spPr>
            <a:xfrm flipV="1">
              <a:off x="4939560" y="410004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19"/>
            <p:cNvSpPr/>
            <p:nvPr/>
          </p:nvSpPr>
          <p:spPr>
            <a:xfrm flipH="1" flipV="1">
              <a:off x="4939920" y="410004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3644280" y="3731760"/>
            <a:ext cx="127440" cy="127080"/>
            <a:chOff x="3644280" y="3731760"/>
            <a:chExt cx="127440" cy="127080"/>
          </a:xfrm>
        </p:grpSpPr>
        <p:sp>
          <p:nvSpPr>
            <p:cNvPr id="79" name="Straight Connector 21"/>
            <p:cNvSpPr/>
            <p:nvPr/>
          </p:nvSpPr>
          <p:spPr>
            <a:xfrm flipV="1">
              <a:off x="3644280" y="373176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2"/>
            <p:cNvSpPr/>
            <p:nvPr/>
          </p:nvSpPr>
          <p:spPr>
            <a:xfrm flipH="1" flipV="1">
              <a:off x="3644640" y="3731760"/>
              <a:ext cx="127080" cy="12708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23"/>
          <p:cNvGrpSpPr/>
          <p:nvPr/>
        </p:nvGrpSpPr>
        <p:grpSpPr>
          <a:xfrm>
            <a:off x="3834720" y="3795840"/>
            <a:ext cx="127440" cy="126720"/>
            <a:chOff x="3834720" y="3795840"/>
            <a:chExt cx="127440" cy="126720"/>
          </a:xfrm>
        </p:grpSpPr>
        <p:sp>
          <p:nvSpPr>
            <p:cNvPr id="82" name="Straight Connector 24"/>
            <p:cNvSpPr/>
            <p:nvPr/>
          </p:nvSpPr>
          <p:spPr>
            <a:xfrm flipV="1">
              <a:off x="3834720" y="3795840"/>
              <a:ext cx="127080" cy="12672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25"/>
            <p:cNvSpPr/>
            <p:nvPr/>
          </p:nvSpPr>
          <p:spPr>
            <a:xfrm flipH="1" flipV="1">
              <a:off x="3835080" y="3795840"/>
              <a:ext cx="127080" cy="126720"/>
            </a:xfrm>
            <a:prstGeom prst="line">
              <a:avLst/>
            </a:prstGeom>
            <a:ln w="316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29"/>
          <p:cNvGrpSpPr/>
          <p:nvPr/>
        </p:nvGrpSpPr>
        <p:grpSpPr>
          <a:xfrm>
            <a:off x="2874960" y="2430000"/>
            <a:ext cx="2881800" cy="2648520"/>
            <a:chOff x="2874960" y="2430000"/>
            <a:chExt cx="2881800" cy="2648520"/>
          </a:xfrm>
        </p:grpSpPr>
        <p:cxnSp>
          <p:nvCxnSpPr>
            <p:cNvPr id="85" name="Straight Arrow Connector 30"/>
            <p:cNvCxnSpPr/>
            <p:nvPr/>
          </p:nvCxnSpPr>
          <p:spPr>
            <a:xfrm>
              <a:off x="2998080" y="4830840"/>
              <a:ext cx="2759040" cy="216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6" name="Straight Arrow Connector 31"/>
            <p:cNvCxnSpPr/>
            <p:nvPr/>
          </p:nvCxnSpPr>
          <p:spPr>
            <a:xfrm flipV="1">
              <a:off x="3148560" y="2430000"/>
              <a:ext cx="2160" cy="25552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87" name="TextBox 32"/>
            <p:cNvSpPr/>
            <p:nvPr/>
          </p:nvSpPr>
          <p:spPr>
            <a:xfrm>
              <a:off x="4941720" y="4832280"/>
              <a:ext cx="81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réquen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3"/>
            <p:cNvSpPr/>
            <p:nvPr/>
          </p:nvSpPr>
          <p:spPr>
            <a:xfrm rot="16200000">
              <a:off x="2590920" y="2713680"/>
              <a:ext cx="81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mplitud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Data 34"/>
          <p:cNvSpPr/>
          <p:nvPr/>
        </p:nvSpPr>
        <p:spPr>
          <a:xfrm>
            <a:off x="539640" y="1282680"/>
            <a:ext cx="1425600" cy="866880"/>
          </a:xfrm>
          <a:prstGeom prst="flowChartInputOutpu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rocess 35"/>
          <p:cNvSpPr/>
          <p:nvPr/>
        </p:nvSpPr>
        <p:spPr>
          <a:xfrm>
            <a:off x="2498760" y="1282680"/>
            <a:ext cx="153828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rocess 36"/>
          <p:cNvSpPr/>
          <p:nvPr/>
        </p:nvSpPr>
        <p:spPr>
          <a:xfrm>
            <a:off x="4749840" y="1282680"/>
            <a:ext cx="143496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37"/>
          <p:cNvCxnSpPr>
            <a:stCxn id="89" idx="5"/>
            <a:endCxn id="90" idx="1"/>
          </p:cNvCxnSpPr>
          <p:nvPr/>
        </p:nvCxnSpPr>
        <p:spPr>
          <a:xfrm>
            <a:off x="1821960" y="1716120"/>
            <a:ext cx="677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3" name="Straight Arrow Connector 38"/>
          <p:cNvCxnSpPr>
            <a:stCxn id="90" idx="3"/>
            <a:endCxn id="91" idx="1"/>
          </p:cNvCxnSpPr>
          <p:nvPr/>
        </p:nvCxnSpPr>
        <p:spPr>
          <a:xfrm>
            <a:off x="4037040" y="1716120"/>
            <a:ext cx="7135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TextBox 39"/>
          <p:cNvSpPr/>
          <p:nvPr/>
        </p:nvSpPr>
        <p:spPr>
          <a:xfrm>
            <a:off x="5754600" y="243036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ame 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0"/>
          <p:cNvSpPr/>
          <p:nvPr/>
        </p:nvSpPr>
        <p:spPr>
          <a:xfrm>
            <a:off x="5754600" y="242568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ame t+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44"/>
          <p:cNvGrpSpPr/>
          <p:nvPr/>
        </p:nvGrpSpPr>
        <p:grpSpPr>
          <a:xfrm>
            <a:off x="2711520" y="3952800"/>
            <a:ext cx="3646440" cy="276480"/>
            <a:chOff x="2711520" y="3952800"/>
            <a:chExt cx="3646440" cy="276480"/>
          </a:xfrm>
        </p:grpSpPr>
        <p:sp>
          <p:nvSpPr>
            <p:cNvPr id="97" name="Straight Connector 42"/>
            <p:cNvSpPr/>
            <p:nvPr/>
          </p:nvSpPr>
          <p:spPr>
            <a:xfrm>
              <a:off x="2770920" y="4191840"/>
              <a:ext cx="3587040" cy="1440"/>
            </a:xfrm>
            <a:prstGeom prst="line">
              <a:avLst/>
            </a:prstGeom>
            <a:ln w="9360">
              <a:solidFill>
                <a:srgbClr val="be4b4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43"/>
            <p:cNvSpPr/>
            <p:nvPr/>
          </p:nvSpPr>
          <p:spPr>
            <a:xfrm>
              <a:off x="2711520" y="39528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75000" y="2779560"/>
            <a:ext cx="1971720" cy="1344600"/>
            <a:chOff x="3375000" y="2779560"/>
            <a:chExt cx="1971720" cy="1344600"/>
          </a:xfrm>
        </p:grpSpPr>
        <p:sp>
          <p:nvSpPr>
            <p:cNvPr id="100" name=""/>
            <p:cNvSpPr/>
            <p:nvPr/>
          </p:nvSpPr>
          <p:spPr>
            <a:xfrm>
              <a:off x="3375000" y="3686040"/>
              <a:ext cx="300240" cy="12888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189" y="10"/>
                  </a:moveTo>
                  <a:cubicBezTo>
                    <a:pt x="120" y="5"/>
                    <a:pt x="52" y="0"/>
                    <a:pt x="26" y="10"/>
                  </a:cubicBezTo>
                  <a:cubicBezTo>
                    <a:pt x="0" y="20"/>
                    <a:pt x="5" y="63"/>
                    <a:pt x="31" y="72"/>
                  </a:cubicBezTo>
                  <a:cubicBezTo>
                    <a:pt x="57" y="81"/>
                    <a:pt x="120" y="74"/>
                    <a:pt x="184" y="67"/>
                  </a:cubicBezTo>
                </a:path>
              </a:pathLst>
            </a:custGeom>
            <a:noFill/>
            <a:ln w="3168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41800" y="2779560"/>
              <a:ext cx="287280" cy="258840"/>
            </a:xfrm>
            <a:custGeom>
              <a:avLst/>
              <a:gdLst/>
              <a:ahLst/>
              <a:rect l="l" t="t" r="r" b="b"/>
              <a:pathLst>
                <a:path w="181" h="163">
                  <a:moveTo>
                    <a:pt x="181" y="0"/>
                  </a:moveTo>
                  <a:cubicBezTo>
                    <a:pt x="101" y="6"/>
                    <a:pt x="22" y="12"/>
                    <a:pt x="11" y="39"/>
                  </a:cubicBezTo>
                  <a:cubicBezTo>
                    <a:pt x="0" y="66"/>
                    <a:pt x="56" y="114"/>
                    <a:pt x="113" y="163"/>
                  </a:cubicBezTo>
                </a:path>
              </a:pathLst>
            </a:custGeom>
            <a:noFill/>
            <a:ln w="3168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8560" y="3998880"/>
              <a:ext cx="308160" cy="125280"/>
            </a:xfrm>
            <a:custGeom>
              <a:avLst/>
              <a:gdLst/>
              <a:ahLst/>
              <a:rect l="l" t="t" r="r" b="b"/>
              <a:pathLst>
                <a:path w="194" h="79">
                  <a:moveTo>
                    <a:pt x="0" y="0"/>
                  </a:moveTo>
                  <a:cubicBezTo>
                    <a:pt x="89" y="4"/>
                    <a:pt x="178" y="9"/>
                    <a:pt x="186" y="22"/>
                  </a:cubicBezTo>
                  <a:cubicBezTo>
                    <a:pt x="194" y="35"/>
                    <a:pt x="122" y="57"/>
                    <a:pt x="50" y="79"/>
                  </a:cubicBezTo>
                </a:path>
              </a:pathLst>
            </a:custGeom>
            <a:noFill/>
            <a:ln w="3168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388520" y="5796000"/>
            <a:ext cx="57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Extraction des pics et liaison entre pics   </a:t>
            </a: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[Tanigushi0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D85-8037-4A2C-8E5D-6AEDA23E4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5423E-006 1.66127E-006 L -1.65423E-006 0.03609 E">
                                      <p:cBhvr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ystème SES-IR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a 3"/>
          <p:cNvSpPr/>
          <p:nvPr/>
        </p:nvSpPr>
        <p:spPr>
          <a:xfrm>
            <a:off x="539640" y="1282680"/>
            <a:ext cx="1425600" cy="866880"/>
          </a:xfrm>
          <a:prstGeom prst="flowChartInputOutpu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rocess 4"/>
          <p:cNvSpPr/>
          <p:nvPr/>
        </p:nvSpPr>
        <p:spPr>
          <a:xfrm>
            <a:off x="2498760" y="1282680"/>
            <a:ext cx="153828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cess 5"/>
          <p:cNvSpPr/>
          <p:nvPr/>
        </p:nvSpPr>
        <p:spPr>
          <a:xfrm>
            <a:off x="4749840" y="1282680"/>
            <a:ext cx="143496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7"/>
          <p:cNvCxnSpPr>
            <a:stCxn id="105" idx="5"/>
            <a:endCxn id="106" idx="1"/>
          </p:cNvCxnSpPr>
          <p:nvPr/>
        </p:nvCxnSpPr>
        <p:spPr>
          <a:xfrm>
            <a:off x="1821960" y="1716120"/>
            <a:ext cx="677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9" name="Straight Arrow Connector 8"/>
          <p:cNvCxnSpPr>
            <a:stCxn id="106" idx="3"/>
            <a:endCxn id="107" idx="1"/>
          </p:cNvCxnSpPr>
          <p:nvPr/>
        </p:nvCxnSpPr>
        <p:spPr>
          <a:xfrm>
            <a:off x="4037040" y="1716120"/>
            <a:ext cx="7135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110" name="Picture 11" descr="Capture d’écran 2012-06-13 à 15.21.31.png"/>
          <p:cNvPicPr/>
          <p:nvPr/>
        </p:nvPicPr>
        <p:blipFill>
          <a:blip r:embed="rId1"/>
          <a:stretch/>
        </p:blipFill>
        <p:spPr>
          <a:xfrm>
            <a:off x="2030400" y="2895480"/>
            <a:ext cx="7053120" cy="361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43720" y="5334120"/>
            <a:ext cx="825480" cy="761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Capture d’écran 2012-06-13 à 15.22.42.png"/>
          <p:cNvPicPr/>
          <p:nvPr/>
        </p:nvPicPr>
        <p:blipFill>
          <a:blip r:embed="rId2"/>
          <a:stretch/>
        </p:blipFill>
        <p:spPr>
          <a:xfrm>
            <a:off x="1965240" y="2865600"/>
            <a:ext cx="7113600" cy="36478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53720" y="5248440"/>
            <a:ext cx="1668600" cy="642600"/>
            <a:chOff x="153720" y="5248440"/>
            <a:chExt cx="1668600" cy="642600"/>
          </a:xfrm>
        </p:grpSpPr>
        <p:sp>
          <p:nvSpPr>
            <p:cNvPr id="114" name=""/>
            <p:cNvSpPr/>
            <p:nvPr/>
          </p:nvSpPr>
          <p:spPr>
            <a:xfrm>
              <a:off x="153720" y="5248440"/>
              <a:ext cx="141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nde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f81bd"/>
                  </a:solidFill>
                  <a:latin typeface="Arial Black"/>
                </a:rPr>
                <a:t>0 à 1000 H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2320" y="5334120"/>
              <a:ext cx="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35640" y="4545000"/>
            <a:ext cx="1444320" cy="115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3920" y="36399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504d"/>
                </a:solidFill>
                <a:latin typeface="Arial"/>
              </a:rPr>
              <a:t>Objectif : isol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504d"/>
                </a:solidFill>
                <a:latin typeface="Arial"/>
              </a:rPr>
              <a:t>ce type de z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1A2-D8DE-46FB-B9DE-550C9652E5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ystème SES-IR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a 3"/>
          <p:cNvSpPr/>
          <p:nvPr/>
        </p:nvSpPr>
        <p:spPr>
          <a:xfrm>
            <a:off x="539640" y="1282680"/>
            <a:ext cx="1425600" cy="866880"/>
          </a:xfrm>
          <a:prstGeom prst="flowChartInputOutpu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cess 4"/>
          <p:cNvSpPr/>
          <p:nvPr/>
        </p:nvSpPr>
        <p:spPr>
          <a:xfrm>
            <a:off x="2498760" y="1282680"/>
            <a:ext cx="153828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cess 5"/>
          <p:cNvSpPr/>
          <p:nvPr/>
        </p:nvSpPr>
        <p:spPr>
          <a:xfrm>
            <a:off x="4749840" y="1282680"/>
            <a:ext cx="143496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rocess 6"/>
          <p:cNvSpPr/>
          <p:nvPr/>
        </p:nvSpPr>
        <p:spPr>
          <a:xfrm>
            <a:off x="6897600" y="1282680"/>
            <a:ext cx="1517760" cy="866880"/>
          </a:xfrm>
          <a:prstGeom prst="flowChart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7"/>
          <p:cNvCxnSpPr>
            <a:stCxn id="119" idx="5"/>
            <a:endCxn id="120" idx="1"/>
          </p:cNvCxnSpPr>
          <p:nvPr/>
        </p:nvCxnSpPr>
        <p:spPr>
          <a:xfrm>
            <a:off x="1821960" y="1716120"/>
            <a:ext cx="677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4" name="Straight Arrow Connector 8"/>
          <p:cNvCxnSpPr>
            <a:stCxn id="120" idx="3"/>
            <a:endCxn id="121" idx="1"/>
          </p:cNvCxnSpPr>
          <p:nvPr/>
        </p:nvCxnSpPr>
        <p:spPr>
          <a:xfrm>
            <a:off x="4037040" y="1716120"/>
            <a:ext cx="7135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>
            <a:stCxn id="121" idx="3"/>
            <a:endCxn id="122" idx="1"/>
          </p:cNvCxnSpPr>
          <p:nvPr/>
        </p:nvCxnSpPr>
        <p:spPr>
          <a:xfrm>
            <a:off x="6184800" y="1716120"/>
            <a:ext cx="7135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126" name="Picture 10" descr="Capture d’écran 2012-06-13 à 15.28.09.png"/>
          <p:cNvPicPr/>
          <p:nvPr/>
        </p:nvPicPr>
        <p:blipFill>
          <a:blip r:embed="rId1"/>
          <a:stretch/>
        </p:blipFill>
        <p:spPr>
          <a:xfrm>
            <a:off x="987480" y="2403360"/>
            <a:ext cx="799308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apture d’écran 2012-06-13 à 15.28.39.png"/>
          <p:cNvPicPr/>
          <p:nvPr/>
        </p:nvPicPr>
        <p:blipFill>
          <a:blip r:embed="rId2"/>
          <a:stretch/>
        </p:blipFill>
        <p:spPr>
          <a:xfrm>
            <a:off x="977760" y="2413080"/>
            <a:ext cx="7940880" cy="407196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3"/>
          <p:cNvGrpSpPr/>
          <p:nvPr/>
        </p:nvGrpSpPr>
        <p:grpSpPr>
          <a:xfrm>
            <a:off x="1395360" y="5278320"/>
            <a:ext cx="7432560" cy="216000"/>
            <a:chOff x="1395360" y="5278320"/>
            <a:chExt cx="7432560" cy="216000"/>
          </a:xfrm>
        </p:grpSpPr>
        <p:sp>
          <p:nvSpPr>
            <p:cNvPr id="129" name="Straight Connector 13"/>
            <p:cNvSpPr/>
            <p:nvPr/>
          </p:nvSpPr>
          <p:spPr>
            <a:xfrm>
              <a:off x="1395360" y="5278320"/>
              <a:ext cx="4653360" cy="309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Straight Connector 16"/>
            <p:cNvSpPr/>
            <p:nvPr/>
          </p:nvSpPr>
          <p:spPr>
            <a:xfrm>
              <a:off x="6201000" y="5461560"/>
              <a:ext cx="2626920" cy="32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Straight Connector 14"/>
            <p:cNvSpPr/>
            <p:nvPr/>
          </p:nvSpPr>
          <p:spPr>
            <a:xfrm>
              <a:off x="6048000" y="5309280"/>
              <a:ext cx="152280" cy="1522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Rectangle 47"/>
          <p:cNvSpPr/>
          <p:nvPr/>
        </p:nvSpPr>
        <p:spPr>
          <a:xfrm>
            <a:off x="5322960" y="2527200"/>
            <a:ext cx="861840" cy="394812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55920" y="5310000"/>
            <a:ext cx="7424640" cy="1549440"/>
            <a:chOff x="1555920" y="5310000"/>
            <a:chExt cx="7424640" cy="1549440"/>
          </a:xfrm>
        </p:grpSpPr>
        <p:sp>
          <p:nvSpPr>
            <p:cNvPr id="134" name=""/>
            <p:cNvSpPr/>
            <p:nvPr/>
          </p:nvSpPr>
          <p:spPr>
            <a:xfrm>
              <a:off x="1555920" y="6491160"/>
              <a:ext cx="74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tecter  F0 </a:t>
              </a: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YIN (monopitch </a:t>
              </a: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Pb multipitch) </a:t>
              </a: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[De Cheveigné02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71560" y="5310000"/>
              <a:ext cx="438120" cy="1131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760" y="3813120"/>
            <a:ext cx="9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 Black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é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fr-FR" sz="1800" spc="-1" strike="noStrike">
                <a:solidFill>
                  <a:srgbClr val="4f81bd"/>
                </a:solidFill>
                <a:latin typeface="Arial Black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tres non li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CE8-81CB-4C7D-A48D-6BE0AAFFE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roche initi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ée pour la détection de chœurs </a:t>
            </a:r>
            <a:r>
              <a:rPr b="1" lang="fr-FR" sz="1800" spc="-1" strike="noStrike">
                <a:solidFill>
                  <a:srgbClr val="7f7f7f"/>
                </a:solidFill>
                <a:latin typeface="Arial"/>
              </a:rPr>
              <a:t>[Le Coz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évaluée qualitativement sur des segments de chœurs ou de sol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liquée sur de la parole superposée (SES2 ETAP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s de résultats … pas d’analyse de résult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ystème sans apprentiss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étrique d’évaluation (comme pour ESTER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-mesure et taux d’erre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s forcément adéquate pour cette tâ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 Evénement touché ou pas » serait peut-être plus approp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euils fixés sur le DEV (ex : 1000Hz, 30%, 2 points, ..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mprécision de l’annotation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valeurs non optimales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tâche SES est restée très exploratoir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6BF-34AA-4B5D-81D9-4AE0B8D1C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blèmes rencontré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âche exploratoire très peu active sur la liste de diffu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u de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u de réactivité aux questions posées (métriqu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nnotation imprécise, voire erroné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Zones PS non annotées / Zones Non PS annotées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blèmes de frontiè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gments peu précis (souvent seulement 1/3 du segment = vrai P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œurs annotés comme parole superposée… 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Indisponibilité des outils d’évaluation pour cette tâc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as de résultats/retours pour l’instant sur l’é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2D6-3131-4A08-A508-F5EF0B95E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Obrecht88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re-Obrecht,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w Statistical Approach for Automatic SpeechvSegment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EE Transactions on Audio, Speech, and Signal Processing, 36(1), 2940, 198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De Cheveigné02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 Cheveigné, A. &amp; Kawahara, 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N, a fundamental frequency estimator for speech and mus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. Acoust. Soc. Am.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0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1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1917-193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Pinquier03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Pinquier, J.; Rouas, J.-L. &amp; Andre-Obrecht, 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usion study in speech/music classifica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. IEEE Int. Conf. Acoustics, Speech, and Signal Processing (ICASSP '03)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[Taniguchi08]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Taniguchi, T.; Tohyama, M. &amp; Shirai, K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tection of speech and music based on spectral tracking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Speech Commun., Elsevier Science Publishers B. V., 2008, 50, 547-5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[Le Coz12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] Le Coz, M.; André-Obrecht, R. &amp; Pinquier, J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asibility of the Detection of Choirs for Ethnomusicologic Music Indexing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In Proceedings of Content-Based Multimedia Indexing 2012, 20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C43-D739-4CDA-9B4A-183D0F460B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0:30:05Z</dcterms:created>
  <dc:creator>Maxime Le Coz</dc:creator>
  <dc:description/>
  <dc:language>en-US</dc:language>
  <cp:lastModifiedBy>Isabelle</cp:lastModifiedBy>
  <dcterms:modified xsi:type="dcterms:W3CDTF">2012-07-05T08:51:09Z</dcterms:modified>
  <cp:revision>48</cp:revision>
  <dc:subject/>
  <dc:title>Systeme IRIT</dc:title>
</cp:coreProperties>
</file>