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994A8-C73E-491F-8857-9AFC78CE295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21DD4-C044-48CA-9F9D-414745E01746}" type="slidenum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8A912-44D9-4668-A0AB-2386AB02CBE7}" type="slidenum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561DD-6A90-44FA-A131-C746273F3287}" type="slidenum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093C8-0667-4782-8A4E-B0EAA785A8EF}" type="slidenum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4BFF5-86A8-42A8-B017-A840106C799F}" type="slidenum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7CF0C-814A-4F68-BD1C-11332BC1B98E}" type="slidenum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1C8FD-0638-4498-A20B-08637E57ADDF}" type="slidenum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910B1-439B-480A-9CC6-18ED41D86E1C}" type="slidenum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53777-42ED-428C-ABF6-1F88B421DDDB}" type="slidenum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1183B-E957-4043-B0EF-ED2A244B3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E6A79-0BB2-4E11-A34C-D1EEEDA02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47D20-F8B2-449A-9682-42D8D9511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2AC15-EB04-4017-BDC3-038230FD2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42CA0-1CB1-4977-9574-8A1FC12DA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6AFB7-C2FA-4E8E-B5BA-E876627B7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14200-31AA-4457-A675-397E5EBFB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B5AE3-E042-4480-AD0A-AB258ACC6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85904-FA9C-4E60-A5D0-C5BCAF8D3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C3C61-063E-453C-BACD-284EE54CD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B8D1B-B267-4448-8405-07A4D2AC4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232F2-8755-4C65-8879-4A475C802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B1F39-FE98-4147-B51F-79E0A5EF0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F93B4-B9BB-4750-840C-805D069CC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F7D1C-177D-48AB-AD72-4BF5D5DAA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60FDE-C1F4-44CC-9CF1-DF9DD1D95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CCA3E-B8EF-4B63-A55A-C5481A1E7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9873C-A18E-4270-A26A-F289B4290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0012C-22E0-48D7-9179-DDEBB539D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77339-9F50-42C1-8091-D3AB94004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F134D-5CE3-4140-A0E2-6CEE7C9F9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9C38F-A594-4BCF-8FA1-C9AAFCE02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1558F-3977-4AC1-95E1-AAD6C6670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D4C15-8C83-4E84-9346-F44280416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1" name="Freeform 3"/>
            <p:cNvSpPr/>
            <p:nvPr/>
          </p:nvSpPr>
          <p:spPr>
            <a:xfrm>
              <a:off x="5388120" y="158580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0" y="1440"/>
              <a:ext cx="8410680" cy="6845400"/>
            </a:xfrm>
            <a:prstGeom prst="pie">
              <a:avLst/>
            </a:pr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0D4EE-B0B4-40C6-93D5-EEC1030C00D0}" type="slidenum"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10"/>
          <p:cNvGrpSpPr/>
          <p:nvPr/>
        </p:nvGrpSpPr>
        <p:grpSpPr>
          <a:xfrm>
            <a:off x="-1035000" y="1552680"/>
            <a:ext cx="10179000" cy="5305320"/>
            <a:chOff x="-1035000" y="1552680"/>
            <a:chExt cx="10179000" cy="5305320"/>
          </a:xfrm>
        </p:grpSpPr>
        <p:sp>
          <p:nvSpPr>
            <p:cNvPr id="45" name="Freeform 3"/>
            <p:cNvSpPr/>
            <p:nvPr/>
          </p:nvSpPr>
          <p:spPr>
            <a:xfrm>
              <a:off x="3271680" y="2709720"/>
              <a:ext cx="5872320" cy="4148280"/>
            </a:xfrm>
            <a:prstGeom prst="pie">
              <a:avLst/>
            </a:pr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Arc 4"/>
            <p:cNvSpPr/>
            <p:nvPr/>
          </p:nvSpPr>
          <p:spPr>
            <a:xfrm>
              <a:off x="-1035000" y="1552680"/>
              <a:ext cx="6726240" cy="5305320"/>
            </a:xfrm>
            <a:prstGeom prst="pie">
              <a:avLst/>
            </a:pr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7B16E-B70F-44E5-846C-0B1E30117E7E}" type="slidenum"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4360" y="12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cc66"/>
                </a:solidFill>
                <a:latin typeface="Arial"/>
              </a:rPr>
              <a:t>Synapse Développement</a:t>
            </a:r>
            <a:br>
              <a:rPr sz="4400"/>
            </a:br>
            <a:r>
              <a:rPr b="0" lang="fr-FR" sz="4400" spc="-1" strike="noStrike">
                <a:solidFill>
                  <a:srgbClr val="ffcc66"/>
                </a:solidFill>
                <a:latin typeface="Arial"/>
              </a:rPr>
              <a:t>à ETAPE Entités Nommé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268000" y="6165360"/>
            <a:ext cx="6696360" cy="5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3300"/>
                </a:solidFill>
                <a:latin typeface="Times New Roman"/>
              </a:rPr>
              <a:t>Atelier ETAPE Entités nommées, 19 juin 201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324000" y="6093000"/>
            <a:ext cx="1726920" cy="59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3"/>
          <p:cNvSpPr/>
          <p:nvPr/>
        </p:nvSpPr>
        <p:spPr>
          <a:xfrm>
            <a:off x="684360" y="2133720"/>
            <a:ext cx="77724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Rectangle 4"/>
          <p:cNvSpPr/>
          <p:nvPr/>
        </p:nvSpPr>
        <p:spPr>
          <a:xfrm>
            <a:off x="684360" y="1197000"/>
            <a:ext cx="7772400" cy="44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Times New Roman"/>
              </a:rPr>
              <a:t>Merci pour votre attention !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Times New Roman"/>
              </a:rPr>
              <a:t>Vos questions sont bienvenues !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4000" y="6093000"/>
            <a:ext cx="1726920" cy="598320"/>
          </a:xfrm>
          <a:prstGeom prst="rect">
            <a:avLst/>
          </a:prstGeom>
          <a:ln w="0">
            <a:noFill/>
          </a:ln>
        </p:spPr>
      </p:pic>
      <p:sp>
        <p:nvSpPr>
          <p:cNvPr id="142" name="Rectangle 3"/>
          <p:cNvSpPr/>
          <p:nvPr/>
        </p:nvSpPr>
        <p:spPr>
          <a:xfrm>
            <a:off x="2268360" y="6165720"/>
            <a:ext cx="6696360" cy="528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3300"/>
                </a:solidFill>
                <a:latin typeface="Times New Roman"/>
              </a:rPr>
              <a:t>Atelier ETAPE Entités nommées, 19 juin 201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cc66"/>
                </a:solidFill>
                <a:latin typeface="Arial"/>
              </a:rPr>
              <a:t>Notre technologie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50560" y="1483920"/>
            <a:ext cx="8715240" cy="42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Analyseur syntaxique et sémantique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Taxonomie à quatre niveaux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Système de questions-réponses</a:t>
            </a:r>
            <a:r>
              <a:rPr b="0" lang="fr-FR" sz="3600" spc="-1" strike="noStrike">
                <a:solidFill>
                  <a:srgbClr val="ffffff"/>
                </a:solidFill>
                <a:latin typeface="Times New Roman"/>
              </a:rPr>
              <a:t>,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Taxonomie de questions-réponses sur 86 types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Correspondance entre cette taxonomie et les entités à détecter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Travail démarré en 2009 pour ESTER2, repris ensuite dans Quaer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324000" y="6093000"/>
            <a:ext cx="1726920" cy="59832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3"/>
          <p:cNvSpPr/>
          <p:nvPr/>
        </p:nvSpPr>
        <p:spPr>
          <a:xfrm>
            <a:off x="2209680" y="6172200"/>
            <a:ext cx="6696360" cy="52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3300"/>
                </a:solidFill>
                <a:latin typeface="Times New Roman"/>
              </a:rPr>
              <a:t>Atelier ETAPE Entités nommées, 19 juin 201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cc66"/>
                </a:solidFill>
                <a:latin typeface="Arial"/>
              </a:rPr>
              <a:t>Nos ressourc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87152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Dictionnaires de noms communs, de syntagmes nominaux et verbaux : plus de 320 000 lemmes pour environ 1,8 million de mots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Dictionnaire de noms propres : 832 210 entités, avec informations caractéristiques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Dictionnaire d’abréviations : 24 701 sigles et abréviations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Taxonomie sur plus de 200 000 noms communs et syntagmes  : 3 387 feuilles au 4e niveau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24000" y="6093000"/>
            <a:ext cx="1726920" cy="59832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3"/>
          <p:cNvSpPr/>
          <p:nvPr/>
        </p:nvSpPr>
        <p:spPr>
          <a:xfrm>
            <a:off x="2268360" y="6165720"/>
            <a:ext cx="6696360" cy="528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3300"/>
                </a:solidFill>
                <a:latin typeface="Times New Roman"/>
              </a:rPr>
              <a:t>Atelier ETAPE Entités nommées, 19 juin 201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cc66"/>
                </a:solidFill>
                <a:latin typeface="Arial"/>
              </a:rPr>
              <a:t>Spécificités d’ETAPE E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87152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4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Détection d’entités temporelles et de montants, pas seulement d’entités nommées au sens strict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4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Différenciation date durée pour les entités temporelles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4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Étiquetage des fonctions (rare en évaluation des E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4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Étiquetage des produits très partiel  : pas de marques, pas de noms de logiciels, par exemple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4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Pas d’étiquetage des événements, mais étiquetage de certains événements dans les organisations, par exemple CAN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4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Pas d ’étiquetage des référents des anaphor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428760" y="1484280"/>
            <a:ext cx="87152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324000" y="6093000"/>
            <a:ext cx="1726920" cy="59832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3"/>
          <p:cNvSpPr/>
          <p:nvPr/>
        </p:nvSpPr>
        <p:spPr>
          <a:xfrm>
            <a:off x="2268360" y="6165720"/>
            <a:ext cx="6696360" cy="528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3300"/>
                </a:solidFill>
                <a:latin typeface="Times New Roman"/>
              </a:rPr>
              <a:t>Atelier ETAPE Entités nommées, 19 juin 201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cc66"/>
                </a:solidFill>
                <a:latin typeface="Arial"/>
              </a:rPr>
              <a:t>Modélisation de la détec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50560" y="1557360"/>
            <a:ext cx="871524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199"/>
              </a:spcBef>
              <a:buClr>
                <a:srgbClr val="ffffff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Module d’extraction des EN à partir des résultats de l’analyse syntaxique et sémantique et de la détermination des types de réponse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1199"/>
              </a:spcBef>
              <a:buClr>
                <a:srgbClr val="ffffff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Module de traitement des entités temporelles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1199"/>
              </a:spcBef>
              <a:buClr>
                <a:srgbClr val="ffffff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Module de révision des limites d’entités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1199"/>
              </a:spcBef>
              <a:buClr>
                <a:srgbClr val="ffffff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Module de désambiguïsation des entités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1199"/>
              </a:spcBef>
              <a:buClr>
                <a:srgbClr val="ffffff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Module d’encapsulation des entité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428760" y="1484280"/>
            <a:ext cx="87152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324000" y="6093000"/>
            <a:ext cx="1726920" cy="59832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3"/>
          <p:cNvSpPr/>
          <p:nvPr/>
        </p:nvSpPr>
        <p:spPr>
          <a:xfrm>
            <a:off x="2268360" y="6165720"/>
            <a:ext cx="6696360" cy="528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3300"/>
                </a:solidFill>
                <a:latin typeface="Times New Roman"/>
              </a:rPr>
              <a:t>Atelier ETAPE Entités nommées, 19 juin 201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cc66"/>
                </a:solidFill>
                <a:latin typeface="Arial"/>
              </a:rPr>
              <a:t>Quelques problèmes d’ambiguïté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50560" y="1557360"/>
            <a:ext cx="871524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Ambiguïtés « lexicales » : « Quelle » ville d’Espagne (province de La Rioja), « Rare » société anglaise de développement de jeux, etc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Ambiguïtés de noms propres : « France » comme prénom, nom de personne, nom de lieu, nom d’organisation (équipe sportive, gouvernement…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Ambiguïtés de sigles : VO = valeur d’origine, version originale, « Vie ouvrière », « Voyages officiels », etc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Rectangle 3"/>
          <p:cNvSpPr/>
          <p:nvPr/>
        </p:nvSpPr>
        <p:spPr>
          <a:xfrm>
            <a:off x="428760" y="1484280"/>
            <a:ext cx="87152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324000" y="6093000"/>
            <a:ext cx="1726920" cy="59832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3"/>
          <p:cNvSpPr/>
          <p:nvPr/>
        </p:nvSpPr>
        <p:spPr>
          <a:xfrm>
            <a:off x="2268360" y="6165720"/>
            <a:ext cx="6696360" cy="528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3300"/>
                </a:solidFill>
                <a:latin typeface="Times New Roman"/>
              </a:rPr>
              <a:t>Atelier ETAPE Entités nommées, 19 juin 201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cc66"/>
                </a:solidFill>
                <a:latin typeface="Arial"/>
              </a:rPr>
              <a:t>Résultats sur le corpus « manuel »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2" name="Rectangle 3"/>
          <p:cNvSpPr/>
          <p:nvPr/>
        </p:nvSpPr>
        <p:spPr>
          <a:xfrm>
            <a:off x="428760" y="1484280"/>
            <a:ext cx="87152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24000" y="6093000"/>
            <a:ext cx="1726920" cy="59832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3"/>
          <p:cNvSpPr/>
          <p:nvPr/>
        </p:nvSpPr>
        <p:spPr>
          <a:xfrm>
            <a:off x="2268360" y="6165720"/>
            <a:ext cx="6696360" cy="528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3300"/>
                </a:solidFill>
                <a:latin typeface="Times New Roman"/>
              </a:rPr>
              <a:t>Atelier ETAPE Entités nommées, 19 juin 201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47920" y="1752480"/>
          <a:ext cx="5462640" cy="40197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47920" y="1752480"/>
                    <a:ext cx="5462640" cy="401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cc66"/>
                </a:solidFill>
                <a:latin typeface="Arial"/>
              </a:rPr>
              <a:t>Résultats sur les corpus transcrit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8" name="Rectangle 3"/>
          <p:cNvSpPr/>
          <p:nvPr/>
        </p:nvSpPr>
        <p:spPr>
          <a:xfrm>
            <a:off x="428760" y="1484280"/>
            <a:ext cx="87152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324000" y="6093000"/>
            <a:ext cx="1726920" cy="59832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3"/>
          <p:cNvSpPr/>
          <p:nvPr/>
        </p:nvSpPr>
        <p:spPr>
          <a:xfrm>
            <a:off x="2268360" y="6165720"/>
            <a:ext cx="6696360" cy="528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3300"/>
                </a:solidFill>
                <a:latin typeface="Times New Roman"/>
              </a:rPr>
              <a:t>Atelier ETAPE Entités nommées, 19 juin 201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1219320" y="2133720"/>
          <a:ext cx="6300720" cy="16761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19320" y="2133720"/>
                    <a:ext cx="6300720" cy="16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" name=""/>
          <p:cNvSpPr/>
          <p:nvPr/>
        </p:nvSpPr>
        <p:spPr>
          <a:xfrm>
            <a:off x="685800" y="4191120"/>
            <a:ext cx="8013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A noter que les résultats sur s30 sont meilleurs que sur le rover, mais que s24, pourtant avec majuscules, ne donne pas de meilleurs résultats que les autres sorti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2"/>
          <p:cNvSpPr/>
          <p:nvPr/>
        </p:nvSpPr>
        <p:spPr>
          <a:xfrm>
            <a:off x="684360" y="33336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imes New Roman"/>
              </a:rPr>
              <a:t>Conclusio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250920" y="1557360"/>
            <a:ext cx="8715240" cy="453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Prise en compte des anaphores, des événements, des produits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Distance entre ce type d ’évaluation et les besoins exprimés par les clients actuels ou potentiels.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Problème de la motivation ds industriels pour ce type de campagne d ’évaluation. Nécessité d ’élargir le cadre si l ’on veut que d ’autres systèmes participent à de futures campagn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A propos de l’apprentissage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Rectangle 3"/>
          <p:cNvSpPr/>
          <p:nvPr/>
        </p:nvSpPr>
        <p:spPr>
          <a:xfrm>
            <a:off x="428760" y="1484280"/>
            <a:ext cx="87152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324000" y="6093000"/>
            <a:ext cx="1726920" cy="598320"/>
          </a:xfrm>
          <a:prstGeom prst="rect">
            <a:avLst/>
          </a:prstGeom>
          <a:ln w="0">
            <a:noFill/>
          </a:ln>
        </p:spPr>
      </p:pic>
      <p:sp>
        <p:nvSpPr>
          <p:cNvPr id="138" name="Rectangle 3"/>
          <p:cNvSpPr/>
          <p:nvPr/>
        </p:nvSpPr>
        <p:spPr>
          <a:xfrm>
            <a:off x="2268360" y="6165720"/>
            <a:ext cx="6696360" cy="528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3300"/>
                </a:solidFill>
                <a:latin typeface="Times New Roman"/>
              </a:rPr>
              <a:t>Atelier ETAPE Entités nommées, 19 juin 201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2T08:33:46Z</dcterms:created>
  <dc:creator>Dominique LAURENT</dc:creator>
  <dc:description/>
  <dc:language>en-US</dc:language>
  <cp:lastModifiedBy>Dominique</cp:lastModifiedBy>
  <dcterms:modified xsi:type="dcterms:W3CDTF">2012-06-18T21:51:10Z</dcterms:modified>
  <cp:revision>59</cp:revision>
  <dc:subject/>
  <dc:title>Natural Language Processing</dc:title>
</cp:coreProperties>
</file>